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89C-7006-48CB-B41C-1B63CC62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A44-B30B-4164-8BED-90AC07F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385-A983-41EB-87E4-99A0FBA2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700-00C2-496B-9BAE-AEAFB49F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EEB-DFA2-4C65-BD73-05BA886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9AF-A6FF-4666-8A09-2870EE1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D64-9833-40DC-A2BE-67EE5097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64B-FCC2-40C3-A435-06D1F9B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385-EB0D-497D-AD39-811A9C1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054-7CA6-4142-88B8-80CBED9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647-CD90-496F-B3AD-E03A54C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B11-B382-464E-8917-4CB07AC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E59-AC48-450F-BE4E-ACDFDF21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McCammitt Gr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lorado Image"/>
          <p:cNvPicPr/>
          <p:nvPr/>
        </p:nvPicPr>
        <p:blipFill>
          <a:blip r:embed="rId1"/>
          <a:stretch/>
        </p:blipFill>
        <p:spPr>
          <a:xfrm>
            <a:off x="0" y="0"/>
            <a:ext cx="339084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523880" y="1184400"/>
          <a:ext cx="270000" cy="21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184400"/>
                    <a:ext cx="27000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Den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hood August 1,1876   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Nil sine Numine  Nothing without Pro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in Population 4,417,7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104,100  square miles 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Household income $49,216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olorado Image"/>
          <p:cNvPicPr/>
          <p:nvPr/>
        </p:nvPicPr>
        <p:blipFill>
          <a:blip r:embed="rId1"/>
          <a:stretch/>
        </p:blipFill>
        <p:spPr>
          <a:xfrm>
            <a:off x="3276720" y="5086440"/>
            <a:ext cx="247644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oral votes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Lark b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 Colum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eoples Ute, Jicarilla, Arap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954600"/>
            <a:ext cx="4295520" cy="290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32767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54:45Z</dcterms:created>
  <dc:creator>Student</dc:creator>
  <dc:description/>
  <dc:language>en-US</dc:language>
  <cp:lastModifiedBy>Student</cp:lastModifiedBy>
  <dcterms:modified xsi:type="dcterms:W3CDTF">2012-05-14T14:30:45Z</dcterms:modified>
  <cp:revision>3</cp:revision>
  <dc:subject/>
  <dc:title>Colorado</dc:title>
</cp:coreProperties>
</file>